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005A-EE39-4FD1-9A6C-1B2B661AA98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87BE-7AE0-4C16-B0C7-F3C8E35E256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DAA-A0DF-4F8A-AEC0-8334954ECAB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46760" y="299880"/>
            <a:ext cx="67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Enhancing Your Reputation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stor.org/stable/10.1525/bio.2009.59.5.9" TargetMode="External"/><Relationship Id="rId2" Type="http://schemas.openxmlformats.org/officeDocument/2006/relationships/hyperlink" Target="http://dx.doi.org/10.1038/415424a" TargetMode="External"/><Relationship Id="rId3" Type="http://schemas.openxmlformats.org/officeDocument/2006/relationships/hyperlink" Target="http://www.jstage.jst.go.jp/article/dsj/9/0/IGY95/_pdf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Stewardship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Enhancing Your Reputation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[Review Date]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cientific Reputation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putation is central to the scientific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earchers build a reputation by producing valuable results, contributing constructively to scientific debates, and being good colleagu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eer-recognition influences one’s employment opportunities, promotion at work, and ability to win further research fund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putation and Data - Wh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re-use is growing in importance in almost all scientific fiel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re-use depends on the availability of trust-worthy data se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ust in data is highly connected to the reputation of the data collectors and data arch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ving a reputation for collecting and sharing high quality and well documented data makes it more likely that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ther researchers will use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ther researchers will cite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ther researchers will share their data with you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putation and Data - How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to get a reputation for data management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ake data openly accessible by submitting to open data arch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ide comprehensive meta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nswer questions from data users in a timely mann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to ensure that reputations for data management can grow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ide proper attribution when you use data collected by someone el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ite data sets in your reference lis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each proper data management and data attribution to new scientis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stello, M. J. 2009. “Motivating Online Publication of Data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BioScienc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59(5): 418-427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jstor.org/stable/10.1525/bio.2009.59.5.9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ilinski, M., D. Semmann, and H.-J. Krambeck. 2002. “Reputation Helps Solve the ‘Tragedy of the Commons’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Natur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415(6870): 424-426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dx.doi.org/10.1038/415424a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rton, C., R. Smith, and R. Weaver. 2010. “Data practices, policy, and rewards in the information era demand a new paradigm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Data Science Journal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9(12)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jstage.jst.go.jp/article/dsj/9/0/IGY95/_p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ing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access to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citation and credi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yernik</cp:lastModifiedBy>
  <dcterms:modified xsi:type="dcterms:W3CDTF">2011-09-26T20:02:39Z</dcterms:modified>
  <cp:revision>238</cp:revision>
  <dc:subject/>
  <dc:title>ESIP Federation 101</dc:title>
</cp:coreProperties>
</file>